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9BC-CF55-46BA-BC2D-4A93C335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DD24-C870-4A8F-9FBB-1298E17E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5A94-5A72-4730-B198-46F77ACD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158-66F6-490A-B5CC-882AE476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13C-CC63-4D97-8044-740A7710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76E-5EBC-4213-8833-C3033442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4DAF-BBB2-4BA0-A33C-EB7DF3C7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6AB-9DA9-452F-B68F-4D87F20C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807-2CEF-48FE-9570-A1BCFCD3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FE80-DF12-46DA-911E-D0D85BFF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0F5D-539A-46C0-8F38-241FA9EB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24E-5794-4D5D-9C83-C67113DF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5412-58BF-4C7B-A1CA-D3F68683570A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6.6 Health Impairing Behavio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56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nthropology and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thropologists have tended to focus on two aspects of human heal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Domestic Scale Cul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mall kinship based societies in which production and distribution of goods is organized on a household b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nthropology and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2.  Industrialized Soc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status of health among people in industrialized 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bserved that declining social cohesion and growing stress, lead to an increase in the incidence of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ociology and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xamine the ways in which social structures, allocation of resources, and social practices affect overall heal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activity, fast food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ologists ask: what can society do about the situ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ociology and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tudies show that we must shift away from the medical interventio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hould be replaced by the health promotio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sychology and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cus is on health and wellness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elieve that individual factors related to the patient, rather than the societal factors can best explain why people become 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ssue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rmula Feeding vs Breast Feedi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throp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ssu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lderly and a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linical Psyc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ssu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eenage smo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6:22:59Z</dcterms:created>
  <dc:creator>Jason</dc:creator>
  <dc:description/>
  <dc:language>en-US</dc:language>
  <cp:lastModifiedBy>Jason</cp:lastModifiedBy>
  <dcterms:modified xsi:type="dcterms:W3CDTF">2011-01-05T17:22:33Z</dcterms:modified>
  <cp:revision>3</cp:revision>
  <dc:subject/>
  <dc:title>6.6 Health Impairing Behaviours</dc:title>
</cp:coreProperties>
</file>